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DD1-8068-45BB-B3D0-7D057D00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3AC-DABC-4F91-BA0A-3540D361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AE1-64FC-46E3-8EF9-2885BF6D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405-4498-4E2F-B402-0DA8F687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400A-73A1-486A-A861-A4634615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C199-0481-478D-B24F-25466389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AA70-270F-418A-A1DC-21CC660E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E2B5-95CE-412E-9A41-3AD28495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7427-4C27-4379-A50B-FFC88E2B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668C-968A-428A-96E5-C3650DFC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DC6B-F74C-4819-8037-3E7C3986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719-364A-4BC0-9EB0-99579018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3D30-F0F1-4EBA-8FEA-4E3F0820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2F1D-1231-4483-BC7D-DAC2D2D9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1405-0D6F-4E82-BF7D-7B5A53D4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A5D6-4A45-4569-A195-48F4E2A7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A19E-938C-4D74-8AB0-58176131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C09-0871-4E99-991D-04564855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F4D-0CD3-46B1-8DB5-996899B0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AB1-8537-4722-A6EC-696506F3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3DD-A10E-4C29-9E61-2279E091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38D-E14E-4515-8E1F-77C74584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435-9895-4BA0-8072-6056D625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690-8DEA-4228-A7E3-A6820666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0D9C-4417-4213-BCB3-65D54BE8D8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DBD0-6030-451E-98F2-6F4490D0D7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perative Caching f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-nary Tree Look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a static n-ary tree and a huge number of key look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-ary tree can fit in memory but not in ca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Throughput and Fast Response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6183360" cy="71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ed Future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 latency: 50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 bandwidth = 4GB/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andwidth=10GB/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PU speed = 10 G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71600" y="4267080"/>
          <a:ext cx="7010280" cy="20574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Tre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371600" y="2666880"/>
          <a:ext cx="7010280" cy="141156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25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.5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371600" y="4952880"/>
          <a:ext cx="7010280" cy="141156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25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990720" y="20574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mental 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343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dicted Future 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 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By One Sear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5240" y="2438280"/>
            <a:ext cx="59864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 B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ffering Acce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&gt;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s for efficient batch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95240" y="2514600"/>
            <a:ext cx="65962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 C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perativ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&gt;&gt;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s for efficient batch process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95240" y="2819520"/>
            <a:ext cx="720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: dominated by memory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: dominated by memory bandwidth(33%) and CPU speed (67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large batches to amortize the cost to load the subtree into the L2 cach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r batches give long delay and slow respon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: dominated by network bandwidth(5%) and CPU speed (9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rated batch to efficiently use network bandwidth and amortize the network late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er response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day’s Hardware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oston Univ. Linux cluster (Mariner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-ary tree size: 3.2MB with 8 lev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rinet networ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d vs. ideal bandwidth: 138MB/s vs. 275MB/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C-133 D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d vs. ideal bandwidth: 647MB/s vs. 1.06GB/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latency: 60ns (measur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 miss penalty: 110ns (measur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2 cache size: 512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71600" y="3886200"/>
          <a:ext cx="7010280" cy="20574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.5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584360" y="2165400"/>
            <a:ext cx="43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40920" y="1981080"/>
            <a:ext cx="605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ary tree size: 3.2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2  cache size: 512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PUs used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ze of Batch/Msg: 40KB storing 10K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19320" y="2514600"/>
                <a:ext cx="6081480" cy="23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ughly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Caculation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thod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thod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B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n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de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e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emory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ey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atch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7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B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thod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: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twork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n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de</m:t>
                                </m:r>
                              </m:sub>
                            </m:sSub>
                          </m:sub>
                        </m:sSub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3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317600" y="5181480"/>
            <a:ext cx="493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3341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fit of the model to the experiment y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0%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Tre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mory latency will not chan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mory Bandwidth will increase moderatel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PU speed and network bandwidth will increase dramaticall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5:50:13Z</dcterms:created>
  <dc:creator>Member</dc:creator>
  <dc:description/>
  <dc:language>en-US</dc:language>
  <cp:lastModifiedBy>Member</cp:lastModifiedBy>
  <dcterms:modified xsi:type="dcterms:W3CDTF">2004-01-28T22:06:19Z</dcterms:modified>
  <cp:revision>43</cp:revision>
  <dc:subject/>
  <dc:title>Aggregate Caches for B+ Tree Look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