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B8E-1A02-41E0-9DE9-44586818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47D-2DFD-44F1-9870-5B03F9B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7D9-25E8-43A6-949E-1B9BFE37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A39-5974-431D-A7DF-B84B2C2B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BFF-0ED2-42A8-BEE1-E749B03E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2A1-F4D5-4426-92FD-C1E3E8AC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A4A-F02A-4551-BD31-DFD1ECD9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85E-969D-46E5-A36F-ACD2C5E3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A3F-34A5-4520-8309-94B03AA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929-703C-40EC-A808-E05C558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CB3-294D-42E7-9F47-B8BA9AD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0CC-91D1-460A-99D7-17F50DA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D71-4E40-49DD-9A66-C2D7A8B2CD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9360" y="266400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2664000"/>
            <a:ext cx="10764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44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9720" y="336564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008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9360" y="4086360"/>
            <a:ext cx="108000" cy="107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920" y="270828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5560" y="270828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700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5664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37720" y="34290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5920" y="414972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367000" y="2708280"/>
            <a:ext cx="765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32000" y="2708280"/>
            <a:ext cx="71928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2708280"/>
            <a:ext cx="72072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71640" y="2708280"/>
            <a:ext cx="107964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367000" y="2708280"/>
            <a:ext cx="2205000" cy="144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32000" y="3429000"/>
            <a:ext cx="107964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7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852720" y="2708280"/>
            <a:ext cx="719280" cy="1441440"/>
          </a:xfrm>
          <a:custGeom>
            <a:avLst/>
            <a:gdLst/>
            <a:ahLst/>
            <a:rect l="l" t="t" r="r" b="b"/>
            <a:pathLst>
              <a:path w="453" h="908">
                <a:moveTo>
                  <a:pt x="0" y="908"/>
                </a:moveTo>
                <a:cubicBezTo>
                  <a:pt x="19" y="742"/>
                  <a:pt x="38" y="577"/>
                  <a:pt x="113" y="426"/>
                </a:cubicBezTo>
                <a:cubicBezTo>
                  <a:pt x="188" y="275"/>
                  <a:pt x="391" y="71"/>
                  <a:pt x="45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252108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24180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11280" y="4149720"/>
            <a:ext cx="1440000" cy="187200"/>
          </a:xfrm>
          <a:custGeom>
            <a:avLst/>
            <a:gdLst/>
            <a:ahLst/>
            <a:rect l="l" t="t" r="r" b="b"/>
            <a:pathLst>
              <a:path w="907" h="118">
                <a:moveTo>
                  <a:pt x="0" y="90"/>
                </a:moveTo>
                <a:cubicBezTo>
                  <a:pt x="151" y="45"/>
                  <a:pt x="302" y="0"/>
                  <a:pt x="453" y="5"/>
                </a:cubicBezTo>
                <a:cubicBezTo>
                  <a:pt x="604" y="10"/>
                  <a:pt x="755" y="64"/>
                  <a:pt x="907" y="1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3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5128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2349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13200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5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4149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68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3080" y="342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936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86280" y="4508640"/>
            <a:ext cx="10764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7000" y="4508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8640" y="225900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9360" y="225900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8640" y="2259000"/>
            <a:ext cx="10764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59000" y="3365640"/>
            <a:ext cx="108000" cy="10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708280"/>
            <a:ext cx="675000" cy="13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3429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270828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2708280"/>
            <a:ext cx="1079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3429000"/>
            <a:ext cx="1079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2708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708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492360" y="3428640"/>
            <a:ext cx="2239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6280" y="3546360"/>
            <a:ext cx="108000" cy="1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21:47Z</dcterms:created>
  <dc:creator>Shental</dc:creator>
  <dc:description/>
  <dc:language>en-US</dc:language>
  <cp:lastModifiedBy>Shental</cp:lastModifiedBy>
  <dcterms:modified xsi:type="dcterms:W3CDTF">2005-01-19T08:37:44Z</dcterms:modified>
  <cp:revision>24</cp:revision>
  <dc:subject/>
  <dc:title>Slide 1</dc:title>
</cp:coreProperties>
</file>