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FFA87-3B8A-474D-85FB-16470D65E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8D881-B42D-46DC-B81F-1389BFF57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F66C3-58CE-49D9-9D95-92A23387E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67CA9-3893-46AC-BE9D-E7F6581EE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B9C12-F808-48E4-8CEA-11285CCEA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FAD6D-003D-4A25-8153-7CDBF2808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80328-A16E-4A35-8057-FD0645262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B3040-3DD2-4740-8C1F-26DC200E3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2FBA6-6A44-4EEC-999B-D7517FC4E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14ACC-63A8-4D0E-80B6-19E9687F9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8318B-C1F5-44C6-AFC1-46546D7D0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0165D-1A5E-43D1-9703-378A51BCF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BF548-8960-4023-9AB0-31E93EFEE069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68640" y="2664000"/>
            <a:ext cx="108000" cy="10764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880" bIns="2988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789360" y="2664000"/>
            <a:ext cx="108000" cy="10764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880" bIns="2988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08640" y="2664000"/>
            <a:ext cx="107640" cy="10764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880" bIns="2988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68640" y="3365640"/>
            <a:ext cx="108000" cy="10764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880" bIns="2988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789360" y="3365640"/>
            <a:ext cx="108000" cy="10764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880" bIns="2988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08640" y="3365640"/>
            <a:ext cx="107640" cy="10764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880" bIns="2988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68640" y="4086360"/>
            <a:ext cx="108000" cy="10764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880" bIns="2988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89360" y="4086360"/>
            <a:ext cx="108000" cy="10764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880" bIns="2988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08640" y="4086360"/>
            <a:ext cx="107640" cy="10764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880" bIns="2988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3132000" y="2798640"/>
            <a:ext cx="0" cy="586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851280" y="2798640"/>
            <a:ext cx="0" cy="586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4572000" y="2798640"/>
            <a:ext cx="0" cy="586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3132000" y="3517560"/>
            <a:ext cx="0" cy="585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3851280" y="3519360"/>
            <a:ext cx="0" cy="586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4572000" y="3519360"/>
            <a:ext cx="0" cy="586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920" y="2708280"/>
            <a:ext cx="5857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895560" y="2708280"/>
            <a:ext cx="5860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920" y="3429000"/>
            <a:ext cx="5857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175920" y="4149720"/>
            <a:ext cx="5857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896640" y="3429000"/>
            <a:ext cx="5857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895560" y="4149720"/>
            <a:ext cx="5860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0T16:21:47Z</dcterms:created>
  <dc:creator>Shental</dc:creator>
  <dc:description/>
  <dc:language>en-US</dc:language>
  <cp:lastModifiedBy>Shental</cp:lastModifiedBy>
  <dcterms:modified xsi:type="dcterms:W3CDTF">2005-01-19T08:41:14Z</dcterms:modified>
  <cp:revision>8</cp:revision>
  <dc:subject/>
  <dc:title>Slide 1</dc:title>
</cp:coreProperties>
</file>