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90D-54B6-470D-A982-D187C0C5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534-F4FC-4FCC-8702-D676861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7F8-0DD0-4BC8-A2AA-929426CB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7E1-8870-4886-B826-38687E7C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21A-23B6-4069-AFB4-6CC4C68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76E-9DAB-4B2F-ACB5-9E12AC9A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26E-47EC-4D13-8ECC-A3FA4A89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EA4-3D35-40E2-A93E-03A9D7F3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685-18E4-4FA2-BE43-AE7F782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A39-7D6D-47B5-A4F2-D999E9B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6B4-8C3E-456E-A1C3-B73F3B6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EEE-E544-48F3-BB47-58A0436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D28-6D7D-43E8-800B-4902A4BFAA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936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266400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44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008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920" y="270828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95560" y="270828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700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5664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3772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7592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367000" y="2708280"/>
            <a:ext cx="765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32000" y="2708280"/>
            <a:ext cx="71928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51280" y="2708280"/>
            <a:ext cx="72072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3164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7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85272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52108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324180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411280" y="414972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3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85128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7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13200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5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1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368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3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936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86280" y="4508640"/>
            <a:ext cx="10764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700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5436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8628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9360" y="225900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864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5900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492360" y="3428640"/>
            <a:ext cx="22392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99000" y="354636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49056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7128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85092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21:47Z</dcterms:created>
  <dc:creator>Shental</dc:creator>
  <dc:description/>
  <dc:language>en-US</dc:language>
  <cp:lastModifiedBy>Shental</cp:lastModifiedBy>
  <dcterms:modified xsi:type="dcterms:W3CDTF">2005-01-19T08:32:35Z</dcterms:modified>
  <cp:revision>19</cp:revision>
  <dc:subject/>
  <dc:title>Slide 1</dc:title>
</cp:coreProperties>
</file>