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B392-747C-4C67-9E85-1139A4DE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B6C-8F36-4CF6-A935-E7ADF7C8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829D-4D93-47BA-9757-C97D5BAF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3173-6D9A-45EC-A302-D797F93D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3CB8-9456-40CE-8872-4901E321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8FA7-ED0A-4EA1-878B-B064AE8F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4B43-9F41-4942-92D8-15CE82AB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027F-781F-4C1B-A42D-5729CFD5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85F2-2F43-484B-863B-61E2CDAA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4CA7-3128-4BD0-AC28-F3B1C276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F947-ED4A-45F9-B2DB-9AE03562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0E63-259F-4805-96F5-331A2D85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B3D2-3B85-471A-A58D-4796427489D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68640" y="266400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89360" y="266400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08640" y="2664000"/>
            <a:ext cx="10764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68640" y="336564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89360" y="336564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08640" y="3365640"/>
            <a:ext cx="10764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68640" y="408636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9360" y="408636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08640" y="4086360"/>
            <a:ext cx="10764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132000" y="2798640"/>
            <a:ext cx="0" cy="586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851280" y="2798640"/>
            <a:ext cx="0" cy="586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572000" y="2798640"/>
            <a:ext cx="0" cy="586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132000" y="3517560"/>
            <a:ext cx="0" cy="585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851280" y="3519360"/>
            <a:ext cx="0" cy="586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572000" y="3519360"/>
            <a:ext cx="0" cy="586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920" y="270828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95560" y="2708280"/>
            <a:ext cx="586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920" y="342900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75920" y="414972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96640" y="342900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95560" y="4149720"/>
            <a:ext cx="586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3220920" y="2798640"/>
            <a:ext cx="586080" cy="586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941640" y="2798640"/>
            <a:ext cx="586080" cy="586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220920" y="3517560"/>
            <a:ext cx="586080" cy="585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941640" y="3517560"/>
            <a:ext cx="586080" cy="585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16:21:47Z</dcterms:created>
  <dc:creator>Shental</dc:creator>
  <dc:description/>
  <dc:language>en-US</dc:language>
  <cp:lastModifiedBy>Shental</cp:lastModifiedBy>
  <dcterms:modified xsi:type="dcterms:W3CDTF">2005-01-19T08:25:55Z</dcterms:modified>
  <cp:revision>7</cp:revision>
  <dc:subject/>
  <dc:title>Slide 1</dc:title>
</cp:coreProperties>
</file>