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F5D-108E-4D00-AEC8-C05931E5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D58-4266-4994-B6CB-0B169E7D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A71-2F7F-446D-A063-E95681CC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7BF-E1CF-4E9E-A727-C3694F48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934-C94A-431A-8273-82255EFF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D4E-00D1-410D-81CF-D53AF62D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990-8C0D-42D8-AC18-40BE33AE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841-2606-45C2-9B67-0B59DFB4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6B8-8A4B-4671-B1AD-B3F48CBD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A2C-0D2C-495E-AD79-ED08320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9B0-79D3-4010-B578-FD96232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DAC-97CA-49AF-A86D-740147C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372-C7CC-4AF0-9A62-3D0A2F1120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3131640" y="2708280"/>
            <a:ext cx="1079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132000" y="2708280"/>
            <a:ext cx="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864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936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8640" y="266400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44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008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920" y="270828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95560" y="270828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700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5664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772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7592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367000" y="2708280"/>
            <a:ext cx="765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2000" y="2708280"/>
            <a:ext cx="71928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708280"/>
            <a:ext cx="72072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13164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7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85272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252108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24180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11280" y="414972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3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5128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13200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5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68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3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936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86280" y="4508640"/>
            <a:ext cx="10764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700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628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9360" y="225900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864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5900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492360" y="3428640"/>
            <a:ext cx="22392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99000" y="354636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49056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77128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85092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71280" y="3429000"/>
            <a:ext cx="1079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851280" y="2708280"/>
            <a:ext cx="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21:47Z</dcterms:created>
  <dc:creator>Shental</dc:creator>
  <dc:description/>
  <dc:language>en-US</dc:language>
  <cp:lastModifiedBy>Shental</cp:lastModifiedBy>
  <dcterms:modified xsi:type="dcterms:W3CDTF">2005-01-26T13:21:50Z</dcterms:modified>
  <cp:revision>22</cp:revision>
  <dc:subject/>
  <dc:title>Slide 1</dc:title>
</cp:coreProperties>
</file>