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74EF-7507-4455-9EA2-D0263C89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18C9-1E58-4A75-BDD2-99E5B21E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82BC-411C-4AA6-A022-FBB52FCE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CD16-8F05-473D-A176-7D0B2571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23B7-7705-4B25-B102-810576AA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186-2A1F-4F9A-8502-25C33F47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8AD6-0EDF-4466-8193-9CF25757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52E-DBDC-41FE-B7F0-C820AEBF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718F-FFFE-414C-BE91-AE523132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FCD9-C783-4671-97AA-33B5A7E4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CCED-355E-4C71-A732-D618242F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96CD-B3AF-4690-93E4-3951D6BE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23A1-126D-4CCA-8426-DF41997FAB8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flipV="1">
            <a:off x="3131640" y="2708280"/>
            <a:ext cx="1079640" cy="720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3132000" y="2708280"/>
            <a:ext cx="0" cy="1395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68640" y="266400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89360" y="266400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08640" y="2664000"/>
            <a:ext cx="10764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9720" y="336564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440" y="336564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49720" y="336564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9360" y="408636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70080" y="408636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9360" y="408636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920" y="2708280"/>
            <a:ext cx="585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95560" y="2708280"/>
            <a:ext cx="58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7000" y="3429000"/>
            <a:ext cx="585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56640" y="4149720"/>
            <a:ext cx="585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37720" y="3429000"/>
            <a:ext cx="585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75920" y="4149720"/>
            <a:ext cx="585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367000" y="2708280"/>
            <a:ext cx="76500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2000" y="2708280"/>
            <a:ext cx="71928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708280"/>
            <a:ext cx="720720" cy="1395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131640" y="2708280"/>
            <a:ext cx="36036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7000" y="2708280"/>
            <a:ext cx="719280" cy="1441440"/>
          </a:xfrm>
          <a:custGeom>
            <a:avLst/>
            <a:gdLst/>
            <a:ahLst/>
            <a:rect l="l" t="t" r="r" b="b"/>
            <a:pathLst>
              <a:path w="453" h="908">
                <a:moveTo>
                  <a:pt x="0" y="908"/>
                </a:moveTo>
                <a:cubicBezTo>
                  <a:pt x="19" y="742"/>
                  <a:pt x="38" y="577"/>
                  <a:pt x="113" y="426"/>
                </a:cubicBezTo>
                <a:cubicBezTo>
                  <a:pt x="188" y="275"/>
                  <a:pt x="391" y="71"/>
                  <a:pt x="45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2708280"/>
            <a:ext cx="719280" cy="1441440"/>
          </a:xfrm>
          <a:custGeom>
            <a:avLst/>
            <a:gdLst/>
            <a:ahLst/>
            <a:rect l="l" t="t" r="r" b="b"/>
            <a:pathLst>
              <a:path w="453" h="908">
                <a:moveTo>
                  <a:pt x="0" y="908"/>
                </a:moveTo>
                <a:cubicBezTo>
                  <a:pt x="19" y="742"/>
                  <a:pt x="38" y="577"/>
                  <a:pt x="113" y="426"/>
                </a:cubicBezTo>
                <a:cubicBezTo>
                  <a:pt x="188" y="275"/>
                  <a:pt x="391" y="71"/>
                  <a:pt x="45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3852720" y="2708280"/>
            <a:ext cx="719280" cy="1441440"/>
          </a:xfrm>
          <a:custGeom>
            <a:avLst/>
            <a:gdLst/>
            <a:ahLst/>
            <a:rect l="l" t="t" r="r" b="b"/>
            <a:pathLst>
              <a:path w="453" h="908">
                <a:moveTo>
                  <a:pt x="0" y="908"/>
                </a:moveTo>
                <a:cubicBezTo>
                  <a:pt x="19" y="742"/>
                  <a:pt x="38" y="577"/>
                  <a:pt x="113" y="426"/>
                </a:cubicBezTo>
                <a:cubicBezTo>
                  <a:pt x="188" y="275"/>
                  <a:pt x="391" y="71"/>
                  <a:pt x="45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32000" y="2521080"/>
            <a:ext cx="1440000" cy="187200"/>
          </a:xfrm>
          <a:custGeom>
            <a:avLst/>
            <a:gdLst/>
            <a:ahLst/>
            <a:rect l="l" t="t" r="r" b="b"/>
            <a:pathLst>
              <a:path w="907" h="118">
                <a:moveTo>
                  <a:pt x="0" y="90"/>
                </a:moveTo>
                <a:cubicBezTo>
                  <a:pt x="151" y="45"/>
                  <a:pt x="302" y="0"/>
                  <a:pt x="453" y="5"/>
                </a:cubicBezTo>
                <a:cubicBezTo>
                  <a:pt x="604" y="10"/>
                  <a:pt x="755" y="64"/>
                  <a:pt x="907" y="11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3241800"/>
            <a:ext cx="1440000" cy="187200"/>
          </a:xfrm>
          <a:custGeom>
            <a:avLst/>
            <a:gdLst/>
            <a:ahLst/>
            <a:rect l="l" t="t" r="r" b="b"/>
            <a:pathLst>
              <a:path w="907" h="118">
                <a:moveTo>
                  <a:pt x="0" y="90"/>
                </a:moveTo>
                <a:cubicBezTo>
                  <a:pt x="151" y="45"/>
                  <a:pt x="302" y="0"/>
                  <a:pt x="453" y="5"/>
                </a:cubicBezTo>
                <a:cubicBezTo>
                  <a:pt x="604" y="10"/>
                  <a:pt x="755" y="64"/>
                  <a:pt x="907" y="11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411280" y="4149720"/>
            <a:ext cx="1440000" cy="187200"/>
          </a:xfrm>
          <a:custGeom>
            <a:avLst/>
            <a:gdLst/>
            <a:ahLst/>
            <a:rect l="l" t="t" r="r" b="b"/>
            <a:pathLst>
              <a:path w="907" h="118">
                <a:moveTo>
                  <a:pt x="0" y="90"/>
                </a:moveTo>
                <a:cubicBezTo>
                  <a:pt x="151" y="45"/>
                  <a:pt x="302" y="0"/>
                  <a:pt x="453" y="5"/>
                </a:cubicBezTo>
                <a:cubicBezTo>
                  <a:pt x="604" y="10"/>
                  <a:pt x="755" y="64"/>
                  <a:pt x="907" y="11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132000" y="234900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51280" y="234900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572000" y="234900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132000" y="4149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851280" y="4149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411280" y="4149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368080" y="342900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3080" y="342900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89360" y="4508640"/>
            <a:ext cx="108000" cy="107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86280" y="4508640"/>
            <a:ext cx="107640" cy="107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67000" y="4508640"/>
            <a:ext cx="108000" cy="107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3365640"/>
            <a:ext cx="108000" cy="107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86280" y="2259000"/>
            <a:ext cx="107640" cy="10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89360" y="2259000"/>
            <a:ext cx="108000" cy="10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8640" y="2259000"/>
            <a:ext cx="107640" cy="10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59000" y="3365640"/>
            <a:ext cx="108000" cy="107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492360" y="3428640"/>
            <a:ext cx="223920" cy="135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99000" y="3546360"/>
            <a:ext cx="108000" cy="10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3490560" y="3429000"/>
            <a:ext cx="36036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2771280" y="3429000"/>
            <a:ext cx="36036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3850920" y="2708280"/>
            <a:ext cx="36036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2771280" y="3429000"/>
            <a:ext cx="1079640" cy="720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851280" y="2708280"/>
            <a:ext cx="0" cy="1395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16:21:47Z</dcterms:created>
  <dc:creator>Shental</dc:creator>
  <dc:description/>
  <dc:language>en-US</dc:language>
  <cp:lastModifiedBy>Shental</cp:lastModifiedBy>
  <dcterms:modified xsi:type="dcterms:W3CDTF">2005-01-19T08:35:51Z</dcterms:modified>
  <cp:revision>21</cp:revision>
  <dc:subject/>
  <dc:title>Slide 1</dc:title>
</cp:coreProperties>
</file>